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8E3-77A1-4B72-871D-AF27259C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EF8-D1F2-4FA3-98FC-026626E6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095C5-8D69-46E2-96B9-CC965B6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AB33B-A8E5-43CE-83B4-049334D7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2C2BC-EA1C-494A-A792-A8624BC1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A429-B76E-449B-B271-E31D615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77E28-1B88-4F3A-941E-91C1C9B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D5BCD-654E-4505-AB73-4197D206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8C34B-13F4-4399-9CCF-FA17F32D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DD2EC-01E8-45E7-A4B1-D5EC28E5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7B74D-8EF5-4A59-8783-502B77CD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10103-127C-4DA2-B6EF-0034821F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1F0-ABD6-4D2A-B942-395E5DED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7333E-7925-4344-B1DE-1AA4F80F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9B3B0-8D77-4AB7-9ED7-49A6622E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A2AA2-5651-4563-8490-2E3DB094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003D2-21FB-4444-AAE6-A8AE9AE0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54EA3-B8BC-4A6D-8B38-4D8DFE1A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A508F-3EE9-4A91-B320-1F5AB758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34E97-EFB4-4337-8B6F-7D7769BB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48033-B8F2-4084-A2CC-BFCE983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C73CD-0854-46A6-8804-356FFF03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1FA40-76D7-4A14-B590-B6E71486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8D2-4D3C-42B6-BBAC-527943B4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1ABAC-0238-409A-8B8C-4283F481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341F0-0E62-4889-BE74-D16DB9A1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F1C28-0244-4F0B-A174-57F94C2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4C987-9B9B-40D7-8EF5-AB95AB0F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2DB4F-3C0E-42D3-BA85-6DDBF8F0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FCFA7-DAAC-4289-9416-01A66C62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C128F-BC65-41EE-AED6-CF39373F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A23F0-254F-45D6-9923-9AB927FE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B2071-754E-447D-9811-B5A9121F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1B53C-4FAB-4A98-A390-5583A46C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FB8A-6B34-4847-A2A3-B71C7A94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274E3-83BE-40AB-B716-8F53A4FB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D500E-C5BB-431D-BE7E-1134F03C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3317B-8D4E-428E-B53B-045EE689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DED01-7D26-4A65-8CAD-FC1BEC51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8D5E4-ED7F-49CD-9681-CA82E493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61330-C0C9-467D-A765-E64DA2AB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2A706-2F1F-4514-AE7E-CE17010E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55003-A4A5-4B40-A2F8-C4827AC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D3A4E-CE67-4789-B280-B1A30432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7D116-E124-4097-BD81-D011DFE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6D33-4D14-49F2-A8A9-C4591951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3BE09-356F-4156-B304-326F3354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9F7E9-E191-4790-943A-0759ED15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053AB-9708-4675-A401-B52B7A2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7ECFB-9987-4E93-8912-6964C06B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88CF4-F0F4-47F1-90AF-D8295092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47E00-25E4-4755-AFC8-6E5443B5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05708-DA25-4F67-9CD0-2720E415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E62BF-E7D2-4897-AA76-9481ADE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72267-68C3-4AD8-9393-13F17735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1FA38-F109-4B02-A1A0-FAD2D079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212A-C6DF-4A42-A3EA-79095DD1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4442C-65DE-43BD-A9C4-DDFF7D22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42EA7-6338-4F0D-BDE1-94AF3292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61668-3A52-42EE-8351-A79BE6EB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C245C-22A4-4651-9859-70DC3605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6644C-F87B-4B68-ACD9-21CE20BD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6D00B-8E59-437C-8AF5-591FFE1E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14076-C814-4AE2-8F54-AFA6C669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975D4-881C-4D7A-B196-B1DA1B65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1B621-B858-473F-BDA0-30350116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95809-0DBD-4DAF-B2F7-FC9CE9D2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4A5E-797E-45A6-8DB0-CA352C5D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B862D-953D-4166-B7A3-9828A63A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86377-13AF-485B-BAC4-0F1A0F71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4B5D1-4C33-4910-8F8F-72F359BE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AC0C7-F884-4988-87E7-82208EC8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51EE7-5909-43CD-86A5-A08E397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1EF92-77A3-467A-8A30-BEA0209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3E8E7-CDFC-4007-95F7-B6491564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384BB-95D7-4AA8-97A1-4D324014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30EDC-6EA4-4423-B412-F4F4821D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86A75-9916-4CA1-B6C6-E836DC44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286F-F412-4417-80C9-BF45BF1E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9C435-D4B4-4F25-87E5-C829F183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46752-5BA6-444F-B02B-BB61971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E9355-4C5F-4FB1-91ED-87B780F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88621-5CEA-4978-A710-3A623C3B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A9B79-F7BF-4B48-829C-E237E559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6B005-DF58-4741-BC37-90127D1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40DBD-D475-44C1-AA38-29A1D5AE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2BB00-6121-4B28-A1E2-99D29B60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F0CDE-9CB1-42A0-9C81-0349CB64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2346D-A5F0-4109-91A9-502CCADD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6F47-1A60-4704-B11E-7C3289CB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16883-47DD-43B7-8244-4733F688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64F0E-F066-448B-83B4-9118296D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7812B-6ECF-4C29-AE54-E318DF38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0E9EA-B174-4C1D-BB8F-75847590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5FE0D-10DE-443D-BB19-F14A131D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CFB29-EBC3-46E7-A30A-65252D5B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304B9A-D872-4175-8502-06DBAB7C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7CD3E-F701-4B12-89D7-6D16FB78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75253-B49F-4B0B-A431-BB9DCD9A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AF9C8-277A-457B-A078-364CFF6F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BFA6-9E10-431F-B861-A265E1B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7AE1A-293F-4A11-8ACD-19B149EE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DA8D9-0F97-4B69-B667-C15EFEF0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82870-BAFB-4238-9842-F145F153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E4C4C-31B4-46C8-8E9C-B83BE55D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01D57-820B-4940-8B44-7505BE34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FB28A-779D-4235-8277-C1E81AC0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53767-9F96-4CE2-8DF9-DDDEBB04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846DD-EE4C-4A91-AC3B-E0D35A43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34353-1B79-439B-9200-B1557D6A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786B0-C98D-4786-9EDA-1882E0F2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46F-5505-4A5A-9355-F8EEEB42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9F0-079A-4683-B0D5-CEF503BD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290E7-C9B7-4FA0-9C08-9BC0BE3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955BB-0BEE-43E9-A46E-3B1724A2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A5642-E21C-4A52-AE7C-F24B81B5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ADA8C-CFB1-4185-92B7-3F767CB4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A36A9-C172-465A-93C0-0C8168A5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A77B3-55B0-4126-83CE-0B2D231E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15D7D-39F3-4B72-B73D-3E193A37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688BC-AE28-43CE-8CB0-8C123147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6D575-2477-4381-A61E-3B8EF66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5831A-3264-4B73-8C11-73A5FDA4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FEB6-D1CB-4DDB-A8F4-57ACB8E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2DEA3-B2ED-42BA-899E-4D439DBB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775D7-4E73-41D6-BEE7-6E1FFF66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3A0D4-3AF0-4C3E-93C7-C30B2B7E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D28D1-C461-4C58-B822-01A21F27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5AF00-7273-431A-A147-450954A7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847A80-05A9-4669-B9D0-B30A9C68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99FE49-F16A-4CA7-BCD7-9707B5F6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CCB8A-7ADB-4D7A-97AA-2CAA76BE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6CA4C-79C4-440E-9A11-AEC972EF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BE2856-5000-425B-92D9-572253F7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1BAB-FA1B-4067-8D43-A548391F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9E963-AA46-4E48-B7D9-462A83A0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05A68-690D-448E-B73A-6D2101AF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8DCE6-99AE-4EE6-9595-753398D3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14B2D-831B-49AD-AC25-A611F536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60823-53DF-4DCC-9465-A00ECE48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63C31-AF5C-4332-B5B3-AEC6B763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DCBE7-DC3E-4FE8-8276-E5CDA0E3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C1098-10A2-415D-A8EC-DA01DB9E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CB37D-43F1-4BE6-9505-E40879A5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01FD5-3CE6-447D-B421-5BBC4481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5D02-C5E7-476C-B8F8-B764A7B9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5EDEC-295D-4E9E-9012-6264805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E005B-3F43-4C14-983B-B820E48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316C4-F575-4FB6-97C0-FD4822FB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44427-870C-4C57-BFDF-334D1B5F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20076-0793-42DB-9502-EBD398CE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41EFF-3093-413F-8EFC-B4FEE7A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E988C-6891-4C80-B878-41CA8B6E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73B176-2ABD-436F-B255-1783A08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F7EE12-8293-4AD3-B7F8-239A4669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30EDE-7EFA-445C-9D83-55235AB5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368F-F1F9-436B-9EA0-84C5E8D8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4304F4-103C-44E2-8D2F-3170E7B1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A24D21-E0C5-44D2-81D3-DA6F3037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3211F-15F9-47DE-BBEE-A9573F7B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50967-57A8-4C01-A7E7-2B346AF2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69AFE6-0871-4351-AE76-14AEB7A3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862D1F-13A7-4EB0-8C30-4EA55366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A9745B-8FB5-4D16-8B98-2F598D44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2C75E-733C-4232-9B36-767F5D9E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3ED6B0-2F58-442F-A26E-D8022E9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D61E9-C777-45D1-99A3-8B111518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C790-405B-40BC-8B3E-73E3A414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156926-647E-4F22-8D32-905854CC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73CCAF-A075-49F3-998E-49D6F77D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60BC9E-A347-48D4-8E37-061E2326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0CCCE2-BC84-4DB4-9333-72A25D50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2A1711-E95B-4CA3-8C00-56AEC995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BDC4F7-6769-47C9-9A6F-064D1E3D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287E49-7EC5-4D31-AA4C-5AC02A3F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7DE250-57FB-4AD1-8F70-07D13CDD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7AB0EA-3026-43B7-95E5-A77EA22C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7C4315-08F4-4975-BC6C-295DF8AF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BBE5-4DA4-4ABE-8B53-01AF7A43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9E2439-3F45-4EA9-8853-2F84D523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A2DDC2-FA73-4FD3-B8B0-7430933D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67A44E-5B1B-4DCD-96DB-2C488F0D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D132A3-2128-4922-AB60-80F34327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DD7623-9B6D-4B2F-B361-A4571AB2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F2141A-5CF9-435C-B685-5D0E7398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2AC361-254C-480F-BE03-8B7A607D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DC619E-0600-4A12-B95B-0B01DD22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99764A-2434-40AA-B287-3F492B16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95DBEB-B742-4296-891D-294E74D6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6B8F-3F98-47CC-8CB5-C879EB08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B28F30-7D16-49EB-98D7-0AD6174F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07A192-0146-4ECD-8153-3BF9C09D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86565A-5487-4752-9B53-EDFC3838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3FD02-C987-4DCC-8772-C530AE5F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9806F7-EA28-4C23-8E44-C1D127F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068388-0A26-437D-B7B8-AA70E629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53040E-7B8F-4177-A390-0AD3F321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8D70B8-8B24-4469-870C-0FD47ABB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7122A4-D9B1-4BA0-8809-2F5F1705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2BA1B5-2F31-4EBB-A057-1390BB93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9DFF-1B20-4532-B3B6-1176F09B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A56ACB-6885-4921-990E-6F46FBB3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514DFE-3161-4EC8-9370-7EB09AE0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69B2C5-0A9D-4D3E-A008-AF2577D7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F6AD72-8F25-484F-98A1-6E838007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ECD82D-5B0D-4B4D-9BD4-65FE2EE8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ADC55F-683E-4A0E-8B88-3CD4CBD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3E52F7-089E-48F2-9E16-A222BF93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64F1A1-4649-4B36-8981-956D4CCB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C104DA-B0AD-475C-B0D4-E71A31E9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18249B-D2C1-41E0-8A84-C4C0905F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46361-97E2-48B8-85DE-C5147BA4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4D8E33-6E65-4737-8235-512DFA0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9F511D-75D1-4E87-911C-8299C0B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9EBA5E-102E-466D-A955-0335BE1D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872211-775D-4783-9A89-F49E8DF4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17F8E2-A303-4430-A21E-CAF96096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F393B7-264F-4909-95D1-76523EE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A8E1DC-DF22-4DC2-BD16-EF1A8BF9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C43659-2A5E-4AFF-90DC-5D00F2B3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8C11E6-E3C4-4E06-BE76-47507C6D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39B188-56B0-46A8-8598-C2A289AE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8D3-8AB8-48CF-B744-8188085F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EB8A-A66D-425E-9691-D599C3ED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D0BAD8-E519-4A49-9B47-5462BECE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E46D07-BBFC-4631-8FBD-A2A7DBBC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6B8CF6-8C3E-40F0-B154-5FFD6518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D0D64B-5D1C-4147-929F-9ABE7EFD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3F65EE-C601-47B6-B2E8-409A8E3B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DCA831-6C86-423B-9B43-842299A7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A7D7EE-DF7A-47C7-8B15-189A0FAB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819D6D-8FDC-4389-9CE8-F7BDF613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DA1060-5DD8-45A3-BB9A-CF29A1A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9C626D-3708-426D-AB57-DAFB0D5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A11F-F12A-401A-B247-778FFE4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74C1A3-B7A0-4ABB-9C42-A4F6D2A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A602CB-AB1A-46A5-B7E8-F219DB90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180B59-85E1-4C49-9AE8-F157290F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508DF2-58B3-40C1-8342-B73B9CB3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78E36A-72F3-49F2-8BAE-4576AE2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8F52A2-51CC-4F5A-AED4-B5D5D955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1111F2-07EF-4442-AB93-D4195807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794C02-CA69-4018-8EE4-1F4FD44F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27A508-367F-497F-96DE-D05F3FBF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03A64A-4230-48B4-879A-B67EE938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279A-F04A-49EC-A96C-08D8D242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537B48-08E9-4A83-AEFF-475987E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85996A-A63F-4D20-8802-CB4B876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EE13FC-3D46-461B-BE2C-55D8C1F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266425-165D-4D3D-9ACE-D3C43C66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13744C-6C4F-4645-BC15-E3F51031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06D665-A6BB-44A4-9DAC-62E27F91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7B73E5-CE7D-49D5-9F47-0B95478D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BED639-7A2E-4D5E-A0E8-193C9109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C8C4C2-C692-47E1-8EC6-BDC05339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8AA32E-FD75-43DA-AFC0-ADEDE822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2521-2BCA-4FFB-84B2-2B8FFB5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23ACB9-DFA3-4623-ACAB-72C7B437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B91C4E-B917-40E5-98F5-CF60CFB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332DB0-C55F-43C9-839A-3320D1B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12C84D-8CD7-485A-97E8-9E56F8E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F0B4A5-ECE1-47D1-8EE8-353EA08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C6D972-71B8-4D23-8933-8CDA88FE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DB8BC0-1CA5-443E-AE80-EBE3F029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8ACE3A-AE4B-4669-86EC-D999914A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57E281-6F21-4EBC-AB88-27856D2B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82137E-26F3-4868-988C-5EA750AA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8CC4-9719-4700-99EC-F1B3D4C5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F55CF7-A4C5-43EE-97BF-5DE19070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F1ADD0-04FB-4922-A21D-F2768BDF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503AA4-3C01-419E-A506-BE51C0E3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150459-0583-45D9-B6E5-42E4349F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BD87FE-F8F4-43D8-9A56-B798098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0C2898-0EE3-4064-8332-AC9DC16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95A79D-5B70-4A05-B8ED-2BDA2E5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3AB52D-A76F-4AF9-A471-82B3D6D9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C4BFBA-5CF0-4787-8950-2DF04E5D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9A8D97-E2D2-4793-AF9F-333C5B55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B127-3E61-4E10-9C8C-FB88CF04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C1D022-8351-4E33-9C8E-CADF725E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56A7BF-0C22-4C09-8601-B78385AB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04140C-B249-457C-BF41-D524D82D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541A24-237B-4513-8E93-EC7D52A3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079EFC-5E74-4CEC-B62A-7A2074BA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5FC38C-C8D7-4239-89A3-AACE7BD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D456D3-72B5-4A27-872E-2ABBB23C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6BA20C-4069-419C-B212-8422C27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242464-75B7-4B8C-8B52-20B0A5BF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68E4AE-B64D-48A7-987A-AE88613C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0C1A-3111-4840-9F71-F91DA80E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FA6E81-8176-44E9-B7D0-C640D72A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602C23-59C2-44EB-89B2-6F991BD2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57639B-57FA-4D28-B154-187AC921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70C586-2794-4ADE-AB1C-34FEE83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70FCA9-E275-4B3E-A1D3-13EEC8DA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F7B12F-C2F4-4F4D-AB09-5ED9C664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E3E27A-2FCA-47BB-8F1A-5A6EBD4C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21B8EC-0F86-4D64-9E1F-6F6D1BE1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E5ABD1-BFA9-43DF-BC54-5DE2B414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5D7C4C-92C3-4163-8E4F-0BA1C3DD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0A678-0CCF-4AF7-9AB9-4A50F47C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B3B2F2-400A-4BE0-8EA8-B236E902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DB7E85-15CD-436E-8B69-842C417B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AC44C1-AF0F-4569-8685-111718B1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BF872-26C5-4DEE-8F8F-2227BE51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32180-5493-4ED3-957E-60B070D6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861-A3C7-454E-B4CD-81BCBEB7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DB63-86D2-4FA0-BB45-2D88EDB7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94E2-1AFE-4FE8-9BB4-39661BDF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8DAB-E79C-4821-BED9-3ECCA197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865C1-4DCB-4074-A6E5-6B61E5E9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4F97-16A6-4AB9-ADEC-E07E3197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6E751-709C-4AD7-81A6-8F6F4DFB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57A4-20E3-4E44-A081-1200778B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AE5E5-08CB-494C-A06B-DCBE41ED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9B24D-7D2E-4954-A816-06ABEF4D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E9437-A8F1-45C2-9AC8-40EBAC58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1AD-84EA-4873-8291-C363FFCD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A99FD-0335-4374-BB4F-68F4BC6E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0B91B-4342-44E7-A20F-D6D7BE27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C2A0-258B-41E8-9E52-1512A050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82A1-B6CD-485C-B141-7B58E864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07A3D-789A-49EB-81EB-D6021E55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A86D-C472-436D-B89D-3179310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B6CA4-2DBF-4125-BE64-D9BC216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7EF2-FEFB-4EDC-A491-18BBAF81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E1476-F3B2-46E8-9227-64851515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9B853-B365-41CB-B466-D0E49803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F29-7AE3-492E-9AB1-CA13AB40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DFCCE-8DAE-4BA3-A7FA-E294EDDE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D7D4D-BE35-4024-82D6-234BDC93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62B73-9D56-44B8-A9FD-9F91E47F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5D923-2F3B-43AA-B687-ABEB6D0F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2831C-E1C8-4B05-823F-3C6309EF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EE529-E572-4803-B4DC-E7D9D0F1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BE6E-666B-4C41-A140-E9A0B8CB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E802-BB76-4F48-8486-F724C15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F1FA3-53A0-46D0-9D52-45357626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5F00F-1214-431B-8005-90FF7749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F6C-1C37-43A9-B31A-2494FF7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16E5D-F7DA-42F6-A0A7-9D00EE82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DD1A-3CFF-4F0F-9D64-9E69C284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4617-2909-45C9-B2BC-FD030B3D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5680C-B145-4D46-85A3-5C309760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6BF8D-422A-42CC-B44E-8E66E164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48D5-C709-4BF7-B318-348417DB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37780-18E3-47CD-9CF5-4215C162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CD4D8-1A33-479D-B66A-07791F9C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61D56-885B-4342-8E0B-C9DD018B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FDCA-EFFF-4F45-BC22-31C6435F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0CD-9A34-4774-8B48-FE369F47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8829-D194-40FF-A87A-F041ADA9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57758-FDB9-4C3C-B1B0-32879F9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FDE46-0771-4110-BFAA-5493ACA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8FCCF-B8ED-4762-AFF4-3CAD9618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1A64C-8563-42BA-A10E-B90280E1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6D9E4-B186-481C-9C15-AF60D1B6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BD105-F078-401B-B7A7-3B8E38D0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02B1C-3830-4578-BEDC-965DFFFC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46A69-C995-4A18-8AB0-A373C08E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7E889-8ED5-4C7D-92BF-DD15439F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B6A-CB2C-4F0C-8810-EDB71234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DAE0C-4734-4574-B85B-D4C775A7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5539-5882-4626-8343-9269BBE2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3AD19-B5BA-4FAD-8A05-A1142911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53C8C-8BD3-4F5E-9080-9C0F538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C446-EEDD-4CE2-8574-5299A9A2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68666-5822-4D4B-B5C7-C67D71A2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15DD0-E226-4C13-AB1B-866C6BDA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FEB2B-88D3-4DDF-A205-2E33D51E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E3017-3556-4F7D-9C20-05477BED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F4A21-9600-4D22-A9F6-6904BFDE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59DA-0692-451B-9C5C-C5EE442A3D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A479-6242-4253-A130-C54F1E2AF2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1FD3-4D90-48A1-BA4B-A801DAED69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6942-63B4-43F3-A5F6-27C7848809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E451-682C-4AB7-882E-BF42766D3F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41FC-28B0-4D09-A8CB-91F7CC4EF7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1795-26A0-469A-87E4-76DE3CF0A8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AABC-7A4C-4E33-9208-2A206F854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F318-CB88-4B0C-B2B5-2A45A69F76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ED37-6720-48C1-B815-7A5D35E6C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E2CC-875D-4FCA-92DE-F6C871F935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F494-3B29-4AFB-94D5-444A2467F0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D691-51DC-4E70-BD11-2D4DEBE77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AF56-A13F-4A9F-B0D8-9391CD603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DC4E-137F-4E1E-BAD9-AC4F607C27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5B95-8CB9-4C24-8AC1-222DA7AA28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3DF6-5D4F-42E5-AEE6-0550D8775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E2CA-75C4-4D24-A4D1-96387F0196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A3D4-0D79-40F8-947C-8D9E0B452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DA08-A3AA-47AC-AE81-258D14EE13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B66A-938A-4EFF-9D74-7E5239FB7F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83C0-987A-492C-8761-E32BB51420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BBD0-E926-46E7-8FEF-5F38019326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E01E-BEEA-494E-B2C6-9256184A32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9FDC-5A83-4184-920F-CDD86E05C2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CD56-DFD1-43B6-BEEC-78DA53DA5E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B195-11FF-47EE-A39A-606F3B98E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C679-B28F-4891-A847-6D209B7DEE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C78F-8F25-4D2C-B85F-4E9A117630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D81A-060A-4A71-8A1F-9E9C633CDF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F318-B012-4C3C-8704-01CA6B30D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5855-9DD3-491C-B878-0485C53257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5B03-9469-4984-A88B-7DB123D106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68AC-DE82-4AB1-BB06-A5E1137360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1DED-16CA-4A3C-A4CB-41A8E93AF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91D6-A49D-46A9-9274-AFA27DE73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237B-A6EE-459B-AC40-F6F0D8310A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48D5-C0A5-4F89-84C3-23956ECA11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06C2-DB92-4186-BB4E-F6C0DA8B9D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0D7E-CC30-42A0-8819-70A436BD8A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D77E-D704-4008-AB72-2CB87AB57E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C407-97A5-4069-8312-590F7FF3DB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2614-4E6A-4D9B-998E-14F02D0987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267C-54A8-47BA-870B-824A638323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2F25-661A-4165-9E54-D344F5E114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8193-C7DC-43A6-BE54-7AC44277D0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2F24-159F-4E8D-9BAC-933400B2C6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4C6A-2B44-4968-80AB-1B37C72DF9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0801-AB4A-4601-A1F3-9828209885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AFBC-E08C-4E86-B034-046E29DB3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3732120" y="988920"/>
            <a:ext cx="714600" cy="40968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711360" y="1812960"/>
            <a:ext cx="7772400" cy="43812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2771640" y="2565360"/>
            <a:ext cx="2752920" cy="352440"/>
          </a:xfrm>
          <a:prstGeom prst="rect">
            <a:avLst/>
          </a:prstGeom>
          <a:ln w="0">
            <a:noFill/>
          </a:ln>
        </p:spPr>
      </p:pic>
      <p:pic>
        <p:nvPicPr>
          <p:cNvPr id="1334" name="图片 40987" descr=""/>
          <p:cNvPicPr/>
          <p:nvPr/>
        </p:nvPicPr>
        <p:blipFill>
          <a:blip r:embed="rId4"/>
          <a:stretch/>
        </p:blipFill>
        <p:spPr>
          <a:xfrm>
            <a:off x="2828880" y="3322800"/>
            <a:ext cx="3029040" cy="3514680"/>
          </a:xfrm>
          <a:prstGeom prst="rect">
            <a:avLst/>
          </a:prstGeom>
          <a:ln w="0">
            <a:noFill/>
          </a:ln>
        </p:spPr>
      </p:pic>
      <p:sp>
        <p:nvSpPr>
          <p:cNvPr id="1335" name="矩形 40988"/>
          <p:cNvSpPr/>
          <p:nvPr/>
        </p:nvSpPr>
        <p:spPr>
          <a:xfrm>
            <a:off x="2805120" y="5630760"/>
            <a:ext cx="245736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2784600" y="6000840"/>
            <a:ext cx="245736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40990"/>
          <p:cNvSpPr/>
          <p:nvPr/>
        </p:nvSpPr>
        <p:spPr>
          <a:xfrm>
            <a:off x="3205080" y="6380280"/>
            <a:ext cx="180972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图片 132097" descr=""/>
          <p:cNvPicPr/>
          <p:nvPr/>
        </p:nvPicPr>
        <p:blipFill>
          <a:blip r:embed="rId1"/>
          <a:stretch/>
        </p:blipFill>
        <p:spPr>
          <a:xfrm>
            <a:off x="304920" y="828720"/>
            <a:ext cx="8153280" cy="5200560"/>
          </a:xfrm>
          <a:prstGeom prst="rect">
            <a:avLst/>
          </a:prstGeom>
          <a:ln w="0">
            <a:noFill/>
          </a:ln>
        </p:spPr>
      </p:pic>
      <p:sp>
        <p:nvSpPr>
          <p:cNvPr id="1399" name="矩形 132098"/>
          <p:cNvSpPr/>
          <p:nvPr/>
        </p:nvSpPr>
        <p:spPr>
          <a:xfrm>
            <a:off x="770040" y="2960640"/>
            <a:ext cx="6669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32099"/>
          <p:cNvSpPr/>
          <p:nvPr/>
        </p:nvSpPr>
        <p:spPr>
          <a:xfrm>
            <a:off x="779400" y="3525840"/>
            <a:ext cx="6669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32100"/>
          <p:cNvSpPr/>
          <p:nvPr/>
        </p:nvSpPr>
        <p:spPr>
          <a:xfrm>
            <a:off x="860400" y="4049640"/>
            <a:ext cx="6669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32101"/>
          <p:cNvSpPr/>
          <p:nvPr/>
        </p:nvSpPr>
        <p:spPr>
          <a:xfrm>
            <a:off x="828720" y="4543560"/>
            <a:ext cx="66690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32102"/>
          <p:cNvSpPr/>
          <p:nvPr/>
        </p:nvSpPr>
        <p:spPr>
          <a:xfrm>
            <a:off x="870120" y="5108400"/>
            <a:ext cx="75517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32103"/>
          <p:cNvSpPr/>
          <p:nvPr/>
        </p:nvSpPr>
        <p:spPr>
          <a:xfrm>
            <a:off x="736560" y="5632560"/>
            <a:ext cx="75517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图片 131073" descr=""/>
          <p:cNvPicPr/>
          <p:nvPr/>
        </p:nvPicPr>
        <p:blipFill>
          <a:blip r:embed="rId1"/>
          <a:stretch/>
        </p:blipFill>
        <p:spPr>
          <a:xfrm>
            <a:off x="174600" y="914400"/>
            <a:ext cx="8134200" cy="5715000"/>
          </a:xfrm>
          <a:prstGeom prst="rect">
            <a:avLst/>
          </a:prstGeom>
          <a:ln w="0">
            <a:noFill/>
          </a:ln>
        </p:spPr>
      </p:pic>
      <p:sp>
        <p:nvSpPr>
          <p:cNvPr id="1406" name="矩形 131074"/>
          <p:cNvSpPr/>
          <p:nvPr/>
        </p:nvSpPr>
        <p:spPr>
          <a:xfrm>
            <a:off x="636480" y="4592520"/>
            <a:ext cx="53643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31075"/>
          <p:cNvSpPr/>
          <p:nvPr/>
        </p:nvSpPr>
        <p:spPr>
          <a:xfrm>
            <a:off x="636480" y="5095800"/>
            <a:ext cx="53643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131076"/>
          <p:cNvSpPr/>
          <p:nvPr/>
        </p:nvSpPr>
        <p:spPr>
          <a:xfrm>
            <a:off x="698400" y="5649840"/>
            <a:ext cx="53643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31077"/>
          <p:cNvSpPr/>
          <p:nvPr/>
        </p:nvSpPr>
        <p:spPr>
          <a:xfrm>
            <a:off x="689040" y="6194520"/>
            <a:ext cx="67626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0" name="图片 130050" descr=""/>
          <p:cNvPicPr/>
          <p:nvPr/>
        </p:nvPicPr>
        <p:blipFill>
          <a:blip r:embed="rId1"/>
          <a:stretch/>
        </p:blipFill>
        <p:spPr>
          <a:xfrm>
            <a:off x="257040" y="871560"/>
            <a:ext cx="8096400" cy="4886280"/>
          </a:xfrm>
          <a:prstGeom prst="rect">
            <a:avLst/>
          </a:prstGeom>
          <a:ln w="0">
            <a:noFill/>
          </a:ln>
        </p:spPr>
      </p:pic>
      <p:sp>
        <p:nvSpPr>
          <p:cNvPr id="1411" name="矩形 130051"/>
          <p:cNvSpPr/>
          <p:nvPr/>
        </p:nvSpPr>
        <p:spPr>
          <a:xfrm>
            <a:off x="2763720" y="4264200"/>
            <a:ext cx="301176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130052"/>
          <p:cNvSpPr/>
          <p:nvPr/>
        </p:nvSpPr>
        <p:spPr>
          <a:xfrm>
            <a:off x="4632480" y="5311800"/>
            <a:ext cx="301140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3" name="图片 129025" descr=""/>
          <p:cNvPicPr/>
          <p:nvPr/>
        </p:nvPicPr>
        <p:blipFill>
          <a:blip r:embed="rId1"/>
          <a:stretch/>
        </p:blipFill>
        <p:spPr>
          <a:xfrm>
            <a:off x="768240" y="768240"/>
            <a:ext cx="7581960" cy="5981760"/>
          </a:xfrm>
          <a:prstGeom prst="rect">
            <a:avLst/>
          </a:prstGeom>
          <a:ln w="0">
            <a:noFill/>
          </a:ln>
        </p:spPr>
      </p:pic>
      <p:sp>
        <p:nvSpPr>
          <p:cNvPr id="1414" name="矩形 129026"/>
          <p:cNvSpPr/>
          <p:nvPr/>
        </p:nvSpPr>
        <p:spPr>
          <a:xfrm>
            <a:off x="5548320" y="1336680"/>
            <a:ext cx="27957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129027"/>
          <p:cNvSpPr/>
          <p:nvPr/>
        </p:nvSpPr>
        <p:spPr>
          <a:xfrm>
            <a:off x="1469880" y="1839960"/>
            <a:ext cx="27957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129028"/>
          <p:cNvSpPr/>
          <p:nvPr/>
        </p:nvSpPr>
        <p:spPr>
          <a:xfrm>
            <a:off x="812880" y="3422520"/>
            <a:ext cx="765468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129029"/>
          <p:cNvSpPr/>
          <p:nvPr/>
        </p:nvSpPr>
        <p:spPr>
          <a:xfrm>
            <a:off x="812880" y="3967200"/>
            <a:ext cx="765468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129030"/>
          <p:cNvSpPr/>
          <p:nvPr/>
        </p:nvSpPr>
        <p:spPr>
          <a:xfrm>
            <a:off x="792000" y="4543560"/>
            <a:ext cx="766476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129031"/>
          <p:cNvSpPr/>
          <p:nvPr/>
        </p:nvSpPr>
        <p:spPr>
          <a:xfrm>
            <a:off x="762120" y="5446800"/>
            <a:ext cx="76644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129032"/>
          <p:cNvSpPr/>
          <p:nvPr/>
        </p:nvSpPr>
        <p:spPr>
          <a:xfrm>
            <a:off x="812880" y="6289560"/>
            <a:ext cx="765468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图片 14028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24800" cy="4133880"/>
          </a:xfrm>
          <a:prstGeom prst="rect">
            <a:avLst/>
          </a:prstGeom>
          <a:ln w="0">
            <a:noFill/>
          </a:ln>
        </p:spPr>
      </p:pic>
      <p:sp>
        <p:nvSpPr>
          <p:cNvPr id="1339" name="矩形 140290"/>
          <p:cNvSpPr/>
          <p:nvPr/>
        </p:nvSpPr>
        <p:spPr>
          <a:xfrm>
            <a:off x="1057320" y="2209680"/>
            <a:ext cx="842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1"/>
          <p:cNvSpPr/>
          <p:nvPr/>
        </p:nvSpPr>
        <p:spPr>
          <a:xfrm>
            <a:off x="2577960" y="2209680"/>
            <a:ext cx="843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2"/>
          <p:cNvSpPr/>
          <p:nvPr/>
        </p:nvSpPr>
        <p:spPr>
          <a:xfrm>
            <a:off x="4027320" y="2209680"/>
            <a:ext cx="1408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3"/>
          <p:cNvSpPr/>
          <p:nvPr/>
        </p:nvSpPr>
        <p:spPr>
          <a:xfrm>
            <a:off x="3122640" y="25686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4"/>
          <p:cNvSpPr/>
          <p:nvPr/>
        </p:nvSpPr>
        <p:spPr>
          <a:xfrm>
            <a:off x="6719760" y="25686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5"/>
          <p:cNvSpPr/>
          <p:nvPr/>
        </p:nvSpPr>
        <p:spPr>
          <a:xfrm>
            <a:off x="4048200" y="2959200"/>
            <a:ext cx="504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6"/>
          <p:cNvSpPr/>
          <p:nvPr/>
        </p:nvSpPr>
        <p:spPr>
          <a:xfrm>
            <a:off x="7099200" y="2959200"/>
            <a:ext cx="947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7"/>
          <p:cNvSpPr/>
          <p:nvPr/>
        </p:nvSpPr>
        <p:spPr>
          <a:xfrm>
            <a:off x="2392200" y="3370320"/>
            <a:ext cx="947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298"/>
          <p:cNvSpPr/>
          <p:nvPr/>
        </p:nvSpPr>
        <p:spPr>
          <a:xfrm>
            <a:off x="8229600" y="4500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图片 139265" descr=""/>
          <p:cNvPicPr/>
          <p:nvPr/>
        </p:nvPicPr>
        <p:blipFill>
          <a:blip r:embed="rId1"/>
          <a:stretch/>
        </p:blipFill>
        <p:spPr>
          <a:xfrm>
            <a:off x="382680" y="803160"/>
            <a:ext cx="8505720" cy="451512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139266" descr=""/>
          <p:cNvPicPr/>
          <p:nvPr/>
        </p:nvPicPr>
        <p:blipFill>
          <a:blip r:embed="rId2"/>
          <a:stretch/>
        </p:blipFill>
        <p:spPr>
          <a:xfrm>
            <a:off x="277920" y="5429160"/>
            <a:ext cx="7191360" cy="95256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9267"/>
          <p:cNvSpPr/>
          <p:nvPr/>
        </p:nvSpPr>
        <p:spPr>
          <a:xfrm>
            <a:off x="8280360" y="1973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9268"/>
          <p:cNvSpPr/>
          <p:nvPr/>
        </p:nvSpPr>
        <p:spPr>
          <a:xfrm>
            <a:off x="8259840" y="286704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9269"/>
          <p:cNvSpPr/>
          <p:nvPr/>
        </p:nvSpPr>
        <p:spPr>
          <a:xfrm>
            <a:off x="5978520" y="3884760"/>
            <a:ext cx="2220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9270"/>
          <p:cNvSpPr/>
          <p:nvPr/>
        </p:nvSpPr>
        <p:spPr>
          <a:xfrm>
            <a:off x="1582560" y="4295880"/>
            <a:ext cx="2200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9271"/>
          <p:cNvSpPr/>
          <p:nvPr/>
        </p:nvSpPr>
        <p:spPr>
          <a:xfrm>
            <a:off x="5867280" y="4295880"/>
            <a:ext cx="136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9272"/>
          <p:cNvSpPr/>
          <p:nvPr/>
        </p:nvSpPr>
        <p:spPr>
          <a:xfrm>
            <a:off x="1160640" y="4707000"/>
            <a:ext cx="793440" cy="54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9273"/>
          <p:cNvSpPr/>
          <p:nvPr/>
        </p:nvSpPr>
        <p:spPr>
          <a:xfrm>
            <a:off x="6780240" y="54658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9274"/>
          <p:cNvSpPr/>
          <p:nvPr/>
        </p:nvSpPr>
        <p:spPr>
          <a:xfrm>
            <a:off x="6605640" y="6021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8241" descr=""/>
          <p:cNvPicPr/>
          <p:nvPr/>
        </p:nvPicPr>
        <p:blipFill>
          <a:blip r:embed="rId1"/>
          <a:stretch/>
        </p:blipFill>
        <p:spPr>
          <a:xfrm>
            <a:off x="555480" y="870120"/>
            <a:ext cx="8286840" cy="529560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8242"/>
          <p:cNvSpPr/>
          <p:nvPr/>
        </p:nvSpPr>
        <p:spPr>
          <a:xfrm>
            <a:off x="770040" y="1644480"/>
            <a:ext cx="23540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43"/>
          <p:cNvSpPr/>
          <p:nvPr/>
        </p:nvSpPr>
        <p:spPr>
          <a:xfrm>
            <a:off x="749160" y="2054160"/>
            <a:ext cx="2354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44"/>
          <p:cNvSpPr/>
          <p:nvPr/>
        </p:nvSpPr>
        <p:spPr>
          <a:xfrm>
            <a:off x="790560" y="2392200"/>
            <a:ext cx="23544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8245"/>
          <p:cNvSpPr/>
          <p:nvPr/>
        </p:nvSpPr>
        <p:spPr>
          <a:xfrm>
            <a:off x="965160" y="2782800"/>
            <a:ext cx="181944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8246"/>
          <p:cNvSpPr/>
          <p:nvPr/>
        </p:nvSpPr>
        <p:spPr>
          <a:xfrm>
            <a:off x="4930920" y="1819440"/>
            <a:ext cx="2354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8247"/>
          <p:cNvSpPr/>
          <p:nvPr/>
        </p:nvSpPr>
        <p:spPr>
          <a:xfrm>
            <a:off x="4827600" y="2179800"/>
            <a:ext cx="23544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8248"/>
          <p:cNvSpPr/>
          <p:nvPr/>
        </p:nvSpPr>
        <p:spPr>
          <a:xfrm>
            <a:off x="5289480" y="2600280"/>
            <a:ext cx="169560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8249"/>
          <p:cNvSpPr/>
          <p:nvPr/>
        </p:nvSpPr>
        <p:spPr>
          <a:xfrm>
            <a:off x="811080" y="4192560"/>
            <a:ext cx="2859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8250"/>
          <p:cNvSpPr/>
          <p:nvPr/>
        </p:nvSpPr>
        <p:spPr>
          <a:xfrm>
            <a:off x="781200" y="4572000"/>
            <a:ext cx="2858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8251"/>
          <p:cNvSpPr/>
          <p:nvPr/>
        </p:nvSpPr>
        <p:spPr>
          <a:xfrm>
            <a:off x="1233360" y="5033880"/>
            <a:ext cx="23259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8252"/>
          <p:cNvSpPr/>
          <p:nvPr/>
        </p:nvSpPr>
        <p:spPr>
          <a:xfrm>
            <a:off x="4940280" y="4192560"/>
            <a:ext cx="32986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8253"/>
          <p:cNvSpPr/>
          <p:nvPr/>
        </p:nvSpPr>
        <p:spPr>
          <a:xfrm>
            <a:off x="4960800" y="4592520"/>
            <a:ext cx="3299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8254"/>
          <p:cNvSpPr/>
          <p:nvPr/>
        </p:nvSpPr>
        <p:spPr>
          <a:xfrm>
            <a:off x="5041800" y="5106960"/>
            <a:ext cx="3299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8255"/>
          <p:cNvSpPr/>
          <p:nvPr/>
        </p:nvSpPr>
        <p:spPr>
          <a:xfrm>
            <a:off x="6070680" y="5621400"/>
            <a:ext cx="169524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图片 137217" descr=""/>
          <p:cNvPicPr/>
          <p:nvPr/>
        </p:nvPicPr>
        <p:blipFill>
          <a:blip r:embed="rId1"/>
          <a:stretch/>
        </p:blipFill>
        <p:spPr>
          <a:xfrm>
            <a:off x="301680" y="907920"/>
            <a:ext cx="8134200" cy="3924360"/>
          </a:xfrm>
          <a:prstGeom prst="rect">
            <a:avLst/>
          </a:prstGeom>
          <a:ln w="0">
            <a:noFill/>
          </a:ln>
        </p:spPr>
      </p:pic>
      <p:sp>
        <p:nvSpPr>
          <p:cNvPr id="1374" name="矩形 137218"/>
          <p:cNvSpPr/>
          <p:nvPr/>
        </p:nvSpPr>
        <p:spPr>
          <a:xfrm>
            <a:off x="7632720" y="250812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7219"/>
          <p:cNvSpPr/>
          <p:nvPr/>
        </p:nvSpPr>
        <p:spPr>
          <a:xfrm>
            <a:off x="7581960" y="39672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136194" descr=""/>
          <p:cNvPicPr/>
          <p:nvPr/>
        </p:nvPicPr>
        <p:blipFill>
          <a:blip r:embed="rId1"/>
          <a:stretch/>
        </p:blipFill>
        <p:spPr>
          <a:xfrm>
            <a:off x="192240" y="884160"/>
            <a:ext cx="8124840" cy="3438720"/>
          </a:xfrm>
          <a:prstGeom prst="rect">
            <a:avLst/>
          </a:prstGeom>
          <a:ln w="0">
            <a:noFill/>
          </a:ln>
        </p:spPr>
      </p:pic>
      <p:sp>
        <p:nvSpPr>
          <p:cNvPr id="1377" name="矩形 136195"/>
          <p:cNvSpPr/>
          <p:nvPr/>
        </p:nvSpPr>
        <p:spPr>
          <a:xfrm>
            <a:off x="7572240" y="19414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图片 135169" descr=""/>
          <p:cNvPicPr/>
          <p:nvPr/>
        </p:nvPicPr>
        <p:blipFill>
          <a:blip r:embed="rId1"/>
          <a:stretch/>
        </p:blipFill>
        <p:spPr>
          <a:xfrm>
            <a:off x="214200" y="920880"/>
            <a:ext cx="8105760" cy="4762440"/>
          </a:xfrm>
          <a:prstGeom prst="rect">
            <a:avLst/>
          </a:prstGeom>
          <a:ln w="0">
            <a:noFill/>
          </a:ln>
        </p:spPr>
      </p:pic>
      <p:sp>
        <p:nvSpPr>
          <p:cNvPr id="1379" name="矩形 135170"/>
          <p:cNvSpPr/>
          <p:nvPr/>
        </p:nvSpPr>
        <p:spPr>
          <a:xfrm>
            <a:off x="7272360" y="2436840"/>
            <a:ext cx="6681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5171"/>
          <p:cNvSpPr/>
          <p:nvPr/>
        </p:nvSpPr>
        <p:spPr>
          <a:xfrm>
            <a:off x="5823000" y="2909880"/>
            <a:ext cx="6681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5172"/>
          <p:cNvSpPr/>
          <p:nvPr/>
        </p:nvSpPr>
        <p:spPr>
          <a:xfrm>
            <a:off x="1517760" y="5189400"/>
            <a:ext cx="6681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图片 134145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6410160" cy="4981680"/>
          </a:xfrm>
          <a:prstGeom prst="rect">
            <a:avLst/>
          </a:prstGeom>
          <a:ln w="0">
            <a:noFill/>
          </a:ln>
        </p:spPr>
      </p:pic>
      <p:sp>
        <p:nvSpPr>
          <p:cNvPr id="1383" name="矩形 134146"/>
          <p:cNvSpPr/>
          <p:nvPr/>
        </p:nvSpPr>
        <p:spPr>
          <a:xfrm>
            <a:off x="893880" y="1870200"/>
            <a:ext cx="41716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4147"/>
          <p:cNvSpPr/>
          <p:nvPr/>
        </p:nvSpPr>
        <p:spPr>
          <a:xfrm>
            <a:off x="1038240" y="2341440"/>
            <a:ext cx="41720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4148"/>
          <p:cNvSpPr/>
          <p:nvPr/>
        </p:nvSpPr>
        <p:spPr>
          <a:xfrm>
            <a:off x="1654200" y="2868480"/>
            <a:ext cx="3771720" cy="6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4149"/>
          <p:cNvSpPr/>
          <p:nvPr/>
        </p:nvSpPr>
        <p:spPr>
          <a:xfrm>
            <a:off x="811080" y="4129200"/>
            <a:ext cx="41720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4150"/>
          <p:cNvSpPr/>
          <p:nvPr/>
        </p:nvSpPr>
        <p:spPr>
          <a:xfrm>
            <a:off x="1490760" y="4602240"/>
            <a:ext cx="41716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4151"/>
          <p:cNvSpPr/>
          <p:nvPr/>
        </p:nvSpPr>
        <p:spPr>
          <a:xfrm>
            <a:off x="2343240" y="5187960"/>
            <a:ext cx="308268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图片 133121" descr=""/>
          <p:cNvPicPr/>
          <p:nvPr/>
        </p:nvPicPr>
        <p:blipFill>
          <a:blip r:embed="rId1"/>
          <a:stretch/>
        </p:blipFill>
        <p:spPr>
          <a:xfrm>
            <a:off x="603360" y="668160"/>
            <a:ext cx="5753160" cy="6181920"/>
          </a:xfrm>
          <a:prstGeom prst="rect">
            <a:avLst/>
          </a:prstGeom>
          <a:ln w="0">
            <a:noFill/>
          </a:ln>
        </p:spPr>
      </p:pic>
      <p:sp>
        <p:nvSpPr>
          <p:cNvPr id="1390" name="矩形 133122"/>
          <p:cNvSpPr/>
          <p:nvPr/>
        </p:nvSpPr>
        <p:spPr>
          <a:xfrm>
            <a:off x="677880" y="1120680"/>
            <a:ext cx="449100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3123"/>
          <p:cNvSpPr/>
          <p:nvPr/>
        </p:nvSpPr>
        <p:spPr>
          <a:xfrm>
            <a:off x="892080" y="1644480"/>
            <a:ext cx="449100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3124"/>
          <p:cNvSpPr/>
          <p:nvPr/>
        </p:nvSpPr>
        <p:spPr>
          <a:xfrm>
            <a:off x="1262160" y="2095560"/>
            <a:ext cx="449100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3125"/>
          <p:cNvSpPr/>
          <p:nvPr/>
        </p:nvSpPr>
        <p:spPr>
          <a:xfrm>
            <a:off x="1468440" y="2548080"/>
            <a:ext cx="4491000" cy="40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33126"/>
          <p:cNvSpPr/>
          <p:nvPr/>
        </p:nvSpPr>
        <p:spPr>
          <a:xfrm>
            <a:off x="574560" y="3954600"/>
            <a:ext cx="3525840" cy="6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33127"/>
          <p:cNvSpPr/>
          <p:nvPr/>
        </p:nvSpPr>
        <p:spPr>
          <a:xfrm>
            <a:off x="2043000" y="4797360"/>
            <a:ext cx="3291120" cy="7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33128"/>
          <p:cNvSpPr/>
          <p:nvPr/>
        </p:nvSpPr>
        <p:spPr>
          <a:xfrm>
            <a:off x="2144880" y="5661000"/>
            <a:ext cx="3290760" cy="7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33129"/>
          <p:cNvSpPr/>
          <p:nvPr/>
        </p:nvSpPr>
        <p:spPr>
          <a:xfrm>
            <a:off x="2527200" y="6556320"/>
            <a:ext cx="1305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20:39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